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598D-54C3-41D3-8167-92FB4FB4D1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work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752B-0DCC-41B4-A30F-A0DA86BCC5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.5 to 2 hours: speaking warmer (15 mins); vocabulary (15 mins); reading (15 mins); speaking (15 mins); grammar review (15 - 30 mins); writing (15 -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A5C2-7202-4E7E-8E2A-D62814157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in pairs or groups and/or make lists, look up information from the Internet, present ideas to the class. The teacher can monitor and note down errors (especially with present continuous tense) for post-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E10B-248A-45FC-B8C0-03F9BD2CB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words and definitions could be printed out and cut up for learners to m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7151-04A1-4657-8CF7-F712458FA1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now ask each other to explain the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5315-8E56-4AAE-8B3C-1AA9399539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the original version of the text – if learners will get discouraged reading it, only allow a short time for them to look at the visuals at this stage – they will be able to understand it better after reading the easier english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0E3F-A9E0-4E1D-B24E-651B179E59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and cut up the text and give one country project to each learner in the class, then get learners to mill and exchang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EA35-B851-432C-B8E0-4B8603F47A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st of the examples are function b) – there are some future plans with function 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64FE-0D30-4DF4-BCA0-0564D3BA2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form, meaning and phonology of the present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7DF5-1558-4149-88CE-A14F0C7BB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3CB-C251-4FE8-AFD3-F77D685B5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F2B-D825-4490-ADB3-55052884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ED0-45CF-4408-8653-36A1A224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3B2A-C50C-4305-99DE-AF6B000F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AD9-FFF2-4617-9783-BF984483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2EE-71DF-4F74-82E7-BBC4F181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177-6C43-48AF-AA23-101A9EDC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852B-C88C-478D-AFB8-BB70A37B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E61-4EFC-44EA-92E0-E03F63F3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A64-38B4-4B61-A534-3C09A74C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F4D-F7E5-4E07-A5BE-25B8A4D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DEA-730C-4F9A-A11A-9470ACA8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940C-1DB4-400D-9975-13ABA8724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Protecting the planet from climate-chang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365360"/>
            <a:ext cx="806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New Internationalist Easier English Ready Intermediate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3427560" y="476280"/>
            <a:ext cx="5730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Make a poster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ll/show others what is happening around the world to protect the planet - maybe include pictures to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back at the original article and read it – it will seem much easier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5219640" y="479736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599840"/>
            <a:ext cx="878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to prepare fo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different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what is happ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review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resent continu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Calibri"/>
              </a:rPr>
              <a:t>What is climate chang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00000"/>
                </a:solidFill>
                <a:latin typeface="Calibri"/>
              </a:rPr>
              <a:t>What can we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54061"/>
                </a:solidFill>
                <a:latin typeface="Calibri"/>
              </a:rPr>
              <a:t>What can governments around the world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691920"/>
            <a:ext cx="266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) glaci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) to reflect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) power gen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) floo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) earthqua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) microfin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1) amphibi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3) fami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4) biodivers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40000" y="620640"/>
            <a:ext cx="662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a) no food – people die because they can’t get fo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b)  to make something col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) all the different types of animals, plants and living things on ear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) when the earth moves for seconds or minutes and shakes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) it makes electric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) a big wall to keep water out (eg. to protect the 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g) a very big river of 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) a big wall to keep water in (eg. in a lak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) no water – people and animals can d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j) an animal that can live in water and on land eg. a fr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k) beautiful coloured rock in the sea near Austral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l) to make something return where it came from (eg. in a mi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) too much water everywhere from rain and rivers overflow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) a banking system where people borrow a small amount of mone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) a very strong wind that can destroy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KEY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glacier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g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2) to reflect back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3) power generator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5) flood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6) earthquake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8) microfinance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3280" y="188640"/>
            <a:ext cx="4500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1) amphibian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j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3) famine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4) biodiversity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-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oral ree.jpg"/>
          <p:cNvPicPr/>
          <p:nvPr/>
        </p:nvPicPr>
        <p:blipFill>
          <a:blip r:embed="rId1"/>
          <a:stretch/>
        </p:blipFill>
        <p:spPr>
          <a:xfrm>
            <a:off x="6012000" y="5300640"/>
            <a:ext cx="2058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world and think about what’s happ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&amp; 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and think : what’s happening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Protecting_the_planet_against_climate_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Practise: tell your partn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Speak: tell everyone el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rammar review : present continuo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3 main functions/meanings of this ten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hing happening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Look! It’s 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something happening in the time around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studying English this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a future arran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playing football next Monday at 5p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Look at the text and find and underline all the example of the present continuous. Which function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mmar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pairs, write at least one present continuous sentence about what is happening in each country in the tex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. In Canada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y are warn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abou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the US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eople are pain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roofs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3:41:19Z</dcterms:created>
  <dc:creator>IT Technical Support</dc:creator>
  <dc:description/>
  <dc:language>en-US</dc:language>
  <cp:lastModifiedBy>Mix</cp:lastModifiedBy>
  <dcterms:modified xsi:type="dcterms:W3CDTF">2012-10-28T17:10:01Z</dcterms:modified>
  <cp:revision>27</cp:revision>
  <dc:subject/>
  <dc:title>Protecting the planet from climate-change</dc:title>
</cp:coreProperties>
</file>